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22C-3CCB-4D6E-AD24-8B1981B8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50B-DA49-4D47-BAB0-FAC13945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75F-92F8-4109-87C9-9DE96913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7EF-366C-412F-9773-FC23D71E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6585-3358-49F4-9700-80B956B8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252E-DDE5-45A5-8B8A-61A2C49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715-C289-4629-9501-8AA1E0AC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2FC-B471-4AA1-B459-F738C15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EED-52EA-47A0-AA30-F310C94F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943-1B57-4E8E-824A-4725F2EE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F8E8-7FA1-484B-A2A8-E673F40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BFE-4C34-4705-B07C-1EE75CB7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926A-8A60-40A9-AA45-17E0E44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3810-10AB-442F-A75F-92BBC02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D64F-39F8-40A1-B9A3-A4DFC3A0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3E91-1A50-4FEF-A998-C562873B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B3B-1037-43FA-BC65-EB7050C6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2CD-8FFD-4B16-9163-BA022F0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0F3-27C4-42E7-98B3-ED930FB9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CB9-1F77-4E35-8814-D968D842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710-1354-4F56-9B51-F0FBE5E9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3B2-5595-4D03-A546-212A214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575-9DFD-48D1-8479-6DEE531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984-506D-4985-8C28-D34FF58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ff33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6FC2-F8F7-4678-A297-52B305CF2123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C89-FC2E-42FF-A869-D08EE9B06741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Salt vs Sug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helby Schroeder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sul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jor Observ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ssible Causes of Erro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rther Research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ime Spent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All science fair workday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knowledgements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Clayton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oll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mm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ax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helbi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ydne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Kaci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rs. Riffe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ow well can people tell the difference between salt and sugar crystals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7621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Problem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alt and sugar look alike, but what if they are crystallized? Is there anyway to tell the difference (in the crystals) without tasting them?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ackground Info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alt comes from underground mines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ugar comes from plants called cane sugar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oo much of both is very bad for a persons body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ugar is sweet and salt is bitter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ypo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predict people will be able to tell the difference between sugar and salt cryst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0477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teria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cu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ieces of string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apercli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uga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al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ate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A sunny plac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Microscope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228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Clayton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oll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mm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ax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helbi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ydne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Kaci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ced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will place the sugar and salt crystal making tools in a sunny plac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ugar and salt crystals will grow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will describe what each is like to m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y will see if they can tell the difference between the two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Variabl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ndependent: gend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ependent: if they could tell the differenc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ontrolled: cryst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10:06Z</dcterms:created>
  <dc:creator>USD376</dc:creator>
  <dc:description/>
  <dc:language>en-US</dc:language>
  <cp:lastModifiedBy>USD376</cp:lastModifiedBy>
  <dcterms:modified xsi:type="dcterms:W3CDTF">2012-03-06T17:14:34Z</dcterms:modified>
  <cp:revision>12</cp:revision>
  <dc:subject/>
  <dc:title>Can People Actually Tell if its More Expensive?</dc:title>
</cp:coreProperties>
</file>